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38925-DCE6-42D2-BD07-92877D70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6D59-339A-4A53-8767-FFD828CE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62CE1-97A2-47EB-A476-419C75D3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25FE-7058-4F99-BB99-421F5C2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69B-A86E-46F0-A7B8-4D0E6732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DAA7-EB45-47F2-AAFE-B5A36B4A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EFC0-031A-4C17-A540-41B3D7D4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8CF-E4C2-452C-BC4D-911C227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D29D-D98B-49CA-9218-B5B3CB2F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1DFC-FB05-4121-9C1F-3F35764B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55B6-34FA-41A2-A9E8-3CBA0386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DE75-5AC2-42E8-A204-B1564815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6EAF-E0A2-498D-9D32-51685CE9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19AE-A526-4EB9-91A7-F769432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011A-F4AA-4422-92D3-4F02FAD5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CBE2-9B52-49B6-9C5C-8A10868B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B60-411C-47F5-989A-3DADB38F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6771-02AB-4C59-A302-4924A876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7FF5-D7F7-4279-9366-2B29136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4980-F60B-4E03-B500-73076717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3406-B1F6-438A-953A-710EEE77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8BDC-AA5C-4366-805C-8515FC5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C282-ABF1-46D9-AF39-72C3AC5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489F-B2F7-489B-BF18-4AB0971D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6CDA-6E48-480B-AD5D-3090CD82D57E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8BE3-96AD-43AE-A5F2-B7849D066E0B}" type="slidenum">
              <a:rPr b="0" lang="en-GB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rtnell.edu/tutorials/biology/tissues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Levels of organis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8064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ells   Tissues   Organs    Organ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3492360" y="4221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5148360" y="422100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1692360" y="4221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Specialisation of cell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ertain cells become specialised in order to carry out specific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oot hair cells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erve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pe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ther cells remain undifferentiat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arenchyma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em cells in 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sperm"/>
          <p:cNvPicPr/>
          <p:nvPr/>
        </p:nvPicPr>
        <p:blipFill>
          <a:blip r:embed="rId1"/>
          <a:stretch/>
        </p:blipFill>
        <p:spPr>
          <a:xfrm>
            <a:off x="155520" y="46080"/>
            <a:ext cx="2962440" cy="4219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neuron"/>
          <p:cNvPicPr/>
          <p:nvPr/>
        </p:nvPicPr>
        <p:blipFill>
          <a:blip r:embed="rId2"/>
          <a:stretch/>
        </p:blipFill>
        <p:spPr>
          <a:xfrm>
            <a:off x="4427640" y="189000"/>
            <a:ext cx="3960720" cy="2493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plant_root_cell"/>
          <p:cNvPicPr/>
          <p:nvPr/>
        </p:nvPicPr>
        <p:blipFill>
          <a:blip r:embed="rId3"/>
          <a:stretch/>
        </p:blipFill>
        <p:spPr>
          <a:xfrm>
            <a:off x="3492360" y="3573360"/>
            <a:ext cx="491508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Tissu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llection of specialised cells that are similar in structure to each other and work together to perform a common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L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ylem and phloem tissue in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pithelial, muscl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rvous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nective tissue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tissue-types-picture"/>
          <p:cNvPicPr/>
          <p:nvPr/>
        </p:nvPicPr>
        <p:blipFill>
          <a:blip r:embed="rId2"/>
          <a:stretch/>
        </p:blipFill>
        <p:spPr>
          <a:xfrm>
            <a:off x="5580000" y="4125960"/>
            <a:ext cx="34146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cuboidal2"/>
          <p:cNvPicPr/>
          <p:nvPr/>
        </p:nvPicPr>
        <p:blipFill>
          <a:blip r:embed="rId1"/>
          <a:stretch/>
        </p:blipFill>
        <p:spPr>
          <a:xfrm>
            <a:off x="611280" y="26028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4911840" y="492120"/>
            <a:ext cx="423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Each cell is a cuboidal epithelium cel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se cells have the same structure and work together to form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uboidal epithelium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(convoluted tubule in the kidne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8" descr="image002"/>
          <p:cNvPicPr/>
          <p:nvPr/>
        </p:nvPicPr>
        <p:blipFill>
          <a:blip r:embed="rId2"/>
          <a:stretch/>
        </p:blipFill>
        <p:spPr>
          <a:xfrm>
            <a:off x="4211640" y="3789360"/>
            <a:ext cx="4743360" cy="28954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539640" y="4653000"/>
            <a:ext cx="318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Each cell is a ciliated epithelium cell. These cells have the same structure and work together to form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iliated epithelium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(the bronchu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356280" y="3213000"/>
            <a:ext cx="53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  <a:ea typeface="Arial"/>
              </a:rPr>
              <a:t>Different types of epithelial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Different types of muscle tissu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5" descr="smooth%20muscle%2040xweb"/>
          <p:cNvPicPr/>
          <p:nvPr/>
        </p:nvPicPr>
        <p:blipFill>
          <a:blip r:embed="rId1"/>
          <a:stretch/>
        </p:blipFill>
        <p:spPr>
          <a:xfrm>
            <a:off x="468360" y="1557360"/>
            <a:ext cx="3924360" cy="32004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638600" y="1700280"/>
            <a:ext cx="29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mooth muscle that line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Arteries and vei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 gu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he breathing syst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9" descr="skelmuscle"/>
          <p:cNvPicPr/>
          <p:nvPr/>
        </p:nvPicPr>
        <p:blipFill>
          <a:blip r:embed="rId2"/>
          <a:stretch/>
        </p:blipFill>
        <p:spPr>
          <a:xfrm>
            <a:off x="4932360" y="3645000"/>
            <a:ext cx="4048200" cy="28479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1388880" y="5445000"/>
            <a:ext cx="358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triated muscle that is found i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Skeletal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ardiac musc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onnective tissu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5" descr="mtj040vg"/>
          <p:cNvPicPr/>
          <p:nvPr/>
        </p:nvPicPr>
        <p:blipFill>
          <a:blip r:embed="rId1"/>
          <a:stretch/>
        </p:blipFill>
        <p:spPr>
          <a:xfrm>
            <a:off x="468360" y="1557360"/>
            <a:ext cx="380988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4624560" y="2076480"/>
            <a:ext cx="383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Collagen fibres are tough and create part of connective tissue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  <a:ea typeface="Arial"/>
              </a:rPr>
              <a:t>Tendons consist of collagen fibres embedded in a matrix of cell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Organ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 collection of tissues working together to perform a particular fun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eaves of pl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iver in anim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lobulep295"/>
          <p:cNvPicPr/>
          <p:nvPr/>
        </p:nvPicPr>
        <p:blipFill>
          <a:blip r:embed="rId1"/>
          <a:stretch/>
        </p:blipFill>
        <p:spPr>
          <a:xfrm>
            <a:off x="5651640" y="2781360"/>
            <a:ext cx="3004920" cy="3763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mg0002art05"/>
          <p:cNvPicPr/>
          <p:nvPr/>
        </p:nvPicPr>
        <p:blipFill>
          <a:blip r:embed="rId2"/>
          <a:stretch/>
        </p:blipFill>
        <p:spPr>
          <a:xfrm>
            <a:off x="539640" y="371628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Organ syste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 organ system consists of a number of organs working toge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productive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cretory sys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re are seven body systems, what are the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 the organs found in these body syst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42:27Z</dcterms:created>
  <dc:creator>Karen Wright</dc:creator>
  <dc:description/>
  <dc:language>en-US</dc:language>
  <cp:lastModifiedBy>Sarah Preston</cp:lastModifiedBy>
  <dcterms:modified xsi:type="dcterms:W3CDTF">2014-09-09T08:00:22Z</dcterms:modified>
  <cp:revision>9</cp:revision>
  <dc:subject/>
  <dc:title>Levels of organisation</dc:title>
</cp:coreProperties>
</file>